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chnic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echnic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DD3C-8CB1-4FA3-8048-375978649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AE5-B2D0-4733-B333-460A7B7B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chnic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2D0-C05A-4238-8D8B-57239461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A1A-E91F-4C67-82AB-465B573E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E3C-9FAF-49E9-9960-8D3DC080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A11-1BCA-4F17-97A6-FB26B691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EBD8-7F8C-4209-B7B7-2873B83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6EF2-09E8-450A-B212-0C3C556E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7BB-8B62-4297-84BA-4D54B15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F8B8-CC73-4CF5-8654-D5A08391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08C4-DC99-4C56-8DB4-E50C374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0680-FB76-4B42-BE11-4601F673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DB80-20DC-4275-95E2-9E7B656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978-A5B4-4D75-95AF-5190FED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B59-C3AD-489F-A21A-5107CFB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A95-7BED-498E-A8F9-B87B14A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5DA7-617A-4A1D-BE0A-2D6CF95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B18A-C907-4399-883C-DE11E58F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8959-31BF-49E3-BDDC-FD59CCA1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B88-689C-42F2-A939-6B09BFDD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478-72BE-4E83-91DA-455A361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F04-B29F-432F-9186-94D932F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643-DBCC-40C3-B59D-725FDC8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FDD-81AE-4E23-802F-15224E3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A93-D146-4D73-9590-253FEB6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301-7C13-4A3E-92B2-3E5A27FB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lick to edit the outline text forma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1" marL="646200" indent="-24840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con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2" marL="9943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hir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3" marL="13921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our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4" marL="1789920" indent="-198720">
              <a:spcBef>
                <a:spcPts val="901"/>
              </a:spcBef>
              <a:buClr>
                <a:srgbClr val="2c8111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if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ix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ven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048120" y="6400440"/>
            <a:ext cx="4038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F0E-94E7-4010-A213-5EBD31DEF45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orgtpf1.wav" descr=""/>
          <p:cNvPicPr/>
          <p:nvPr/>
        </p:nvPicPr>
        <p:blipFill>
          <a:blip r:embed="rId5"/>
          <a:stretch/>
        </p:blipFill>
        <p:spPr>
          <a:xfrm>
            <a:off x="0" y="64771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lick to edit the outline text forma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1" marL="646200" indent="-24840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con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2" marL="9943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hir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3" marL="13921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our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4" marL="1789920" indent="-198720">
              <a:spcBef>
                <a:spcPts val="901"/>
              </a:spcBef>
              <a:buClr>
                <a:srgbClr val="2c8111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if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ix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ven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4 Anthony A. Luscre Mogadore Local Sch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59DD-5481-475C-83D5-B6CDDCA9B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gadore.summit.k12.oh.us/portal/search.html" TargetMode="External"/><Relationship Id="rId2" Type="http://schemas.openxmlformats.org/officeDocument/2006/relationships/hyperlink" Target="http://www.mogadore.summit.k12.oh.us/portal/search.html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2929"/>
                </a:solidFill>
                <a:latin typeface="Tahoma"/>
              </a:rPr>
              <a:t>Beyond Searching-</a:t>
            </a: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Guerrilla Tactics to </a:t>
            </a:r>
            <a:br>
              <a:rPr sz="3200"/>
            </a:b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Get the Information You Want &amp; </a:t>
            </a:r>
            <a:br>
              <a:rPr sz="3200"/>
            </a:b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Know What You're Getting</a:t>
            </a:r>
            <a:endParaRPr b="1" lang="en-US" sz="32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8111"/>
                </a:solidFill>
                <a:latin typeface="Technical"/>
              </a:rPr>
              <a:t>-------------------</a:t>
            </a:r>
            <a:endParaRPr b="1" lang="en-US" sz="2000" spc="-1" strike="noStrike">
              <a:solidFill>
                <a:srgbClr val="2c8111"/>
              </a:solidFill>
              <a:latin typeface="Technic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nthony A. Luscr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8111"/>
                </a:solidFill>
                <a:latin typeface="Technical"/>
              </a:rPr>
              <a:t>Director of Technology</a:t>
            </a:r>
            <a:endParaRPr b="1" lang="en-US" sz="2800" spc="-1" strike="noStrike">
              <a:solidFill>
                <a:srgbClr val="2c8111"/>
              </a:solidFill>
              <a:latin typeface="Technic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Mogadore Local Schools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pic>
        <p:nvPicPr>
          <p:cNvPr id="100" name="Picture 5" descr="file:///C:/Documents%20and%20Settings/Anthony/My%20Documents/Mogadore_Web_Page/coolcat2_small.gif"/>
          <p:cNvPicPr/>
          <p:nvPr/>
        </p:nvPicPr>
        <p:blipFill>
          <a:blip r:embed="rId1"/>
          <a:stretch/>
        </p:blipFill>
        <p:spPr>
          <a:xfrm>
            <a:off x="4114800" y="5334120"/>
            <a:ext cx="15238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6448-6DC1-4586-BA00-3B049E58D552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Wording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hoose the wording of your query carefully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Know which words are ignored by your SE. These "stop words" or "trivial text" include </a:t>
            </a:r>
            <a:r>
              <a:rPr b="1" i="1" lang="en-US" sz="3600" spc="-1" strike="noStrike">
                <a:solidFill>
                  <a:srgbClr val="2c8111"/>
                </a:solidFill>
                <a:latin typeface="Technical"/>
              </a:rPr>
              <a:t>where, how, a, the, etc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.) You can force the engine to use these words by adding a “</a:t>
            </a:r>
            <a:r>
              <a:rPr b="0" lang="en-US" sz="3600" spc="-1" strike="noStrike">
                <a:solidFill>
                  <a:srgbClr val="2c8111"/>
                </a:solidFill>
                <a:latin typeface="Andale Mono"/>
              </a:rPr>
              <a:t>+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” before the wor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0633-AD61-433C-8E96-3789FEBF252E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Wording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Know how to exclude word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ry a variety of words &amp; word order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words that are unique to the item you are searching for-- author's name, specific state or city, dates or specialized term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words that experts in that field would us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B76-5322-4195-8E80-37C9B88B5737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Results Page</a:t>
            </a: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echnical"/>
              </a:rPr>
              <a:t>Just because an item is listed first, does not mean it is the best resource !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2EA-6E0C-4204-8BE1-F09912C4E45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Results Page</a:t>
            </a: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What factors influence site ranking?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cognize advertisements &amp; paid placemen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evelop a strategy for reading listed pages' descriptions to choose best candidat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Learn how to read the URL (address) of a sit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0820-37E8-47CC-9DC1-DD8920B79A5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ertising</a:t>
            </a: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istinguish between advertisements and valid search results.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cognize "pay to place", "pay-to-click" &amp; "click revenue." Know how vendors bid on key word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22EB-E903-4C95-AD5D-544A1E1F310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ertising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o find out how much a key word or phrase costs today: visit overture.com, search for word &amp; click on the link on right-top corner- “view advertiser’s maximum bids”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D37-793F-48B6-B362-E02CA190B4F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ertising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ay-Per-Click-- each time you click on a link from the search engine to the high bidding company, that company pays the search engine that amount of money!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66E6-7C1A-4EBD-9D37-92A7A7D2941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rim #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rim # of Pages Foun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key words found in the listings of your search results to refine your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164-BB0D-4DD2-9FEB-793BABC1D4C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rim #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f many of the sites contain a word you do not want, go back and exclude that word and then repeat the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f many of the sites found are "too generic", choose word(s) to narrow search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80A0-AF6F-40D9-8672-FA6AD678488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rim #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f found sites have all the right words but in the wrong order, go back and enter them in "exact phrase" box. Then repeat the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4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188F-58CD-4D1C-997A-D8801D9666E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2c8111"/>
                </a:solidFill>
                <a:latin typeface="Tahoma"/>
              </a:rPr>
              <a:t>Go ask your search Engine.”</a:t>
            </a:r>
            <a:endParaRPr b="1" lang="en-US" sz="4000" spc="-1" strike="noStrike">
              <a:solidFill>
                <a:srgbClr val="2c8111"/>
              </a:solidFill>
              <a:latin typeface="Tahoma"/>
            </a:endParaRPr>
          </a:p>
        </p:txBody>
      </p:sp>
      <p:pic>
        <p:nvPicPr>
          <p:cNvPr id="105" name="Picture 6" descr="C:\Documents and Settings\Administrator\My Documents\osn\tech_conf_04\dad.gif"/>
          <p:cNvPicPr/>
          <p:nvPr/>
        </p:nvPicPr>
        <p:blipFill>
          <a:blip r:embed="rId1"/>
          <a:stretch/>
        </p:blipFill>
        <p:spPr>
          <a:xfrm>
            <a:off x="1066680" y="1522440"/>
            <a:ext cx="75438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2A2B-10B3-49A6-A8B0-D92E5761009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Quality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Visit a few of the sites on your results page that show promise based on their descriptions, URL, dates, etc.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Evaluate if you have found valid information that you were searching for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Decide if you need to refine your search 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Check pages for links to other pages that might provide more relevant information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8111"/>
                </a:solidFill>
                <a:latin typeface="Technical"/>
              </a:rPr>
              <a:t>These are just the first steps in evaluating the pages you find, more on evaluating later in this presentation…</a:t>
            </a:r>
            <a:endParaRPr b="1" lang="en-US" sz="2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3DF-7493-4158-A916-C4ECFCA1733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URLs of Sites (Addresses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"…Uniform Resource Locator, the global address of documents &amp; other resources on the World Wide Web." – from Webopedia.co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1680" indent="-3016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nformation about a site’s owner based on .com, .edu, .gov, etc. can be helpful but is not always consistent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F50-85EC-4AD8-A784-0BC9EF9631B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URLs of Site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Caution Signs- Specific characters (@, ~, #, etc.) can cause an address to…</a:t>
            </a:r>
            <a:r>
              <a:rPr b="1" i="1" lang="en-US" sz="44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i="1" lang="en-US" sz="44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i="1" lang="en-US" sz="44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not always be 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what it 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appears to be.</a:t>
            </a:r>
            <a:endParaRPr b="1" lang="en-US" sz="44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41BC-19FA-4BBF-9906-7B5618F70B5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@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= 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DANGER !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echnical"/>
              </a:rPr>
              <a:t>web browsers ignore all characters proceeding an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@</a:t>
            </a:r>
            <a:r>
              <a:rPr b="1" lang="en-US" sz="4800" spc="-1" strike="noStrike">
                <a:solidFill>
                  <a:srgbClr val="2c8111"/>
                </a:solidFill>
                <a:latin typeface="Technical"/>
              </a:rPr>
              <a:t> in an address.</a:t>
            </a:r>
            <a:endParaRPr b="1" lang="en-US" sz="48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A44A-AD15-44CA-9ADC-522246BD0B9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~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= Personal 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ddresses with a </a:t>
            </a: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~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(tilde) usually indicate that it is a privately maintained page even if the address denotes a larger institution (.com corporation, .edu university or .gov government) and thus usually contain personal opinion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8EB-D1BC-4500-BFF9-7D6081817D32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# = Named Anchor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llow the page designer to direct you to specific spots within a page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3CD-D782-42D0-9C3B-7111CB5C20A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Fake/Scam Site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cam</a:t>
            </a: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 site -- http://www.mcwhortle.com/ and explanation site http://www.sec.gov/news/headlines/scamsites.htm 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http://www.newulm.k12.mn.us/inet.eval/fakes.htm lists a number of links to fake sites including this classic http://www.dhmo.org/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http://www.bigredhair.com/boilerplate/ This is from scam busters.org 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This is for NPR show On the Media http://www.wnyc.org/onthemedia/transcripts/transcripts_122002_fake.html</a:t>
            </a:r>
            <a:r>
              <a:rPr b="1" lang="en-US" sz="2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800C-F959-4C06-B1E4-6DB7E96EA25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8111"/>
                </a:solidFill>
                <a:latin typeface="Tahoma"/>
              </a:rPr>
              <a:t>URLs (continued)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Recursive Searching (RS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rom </a:t>
            </a:r>
            <a:r>
              <a:rPr b="1" i="1" lang="en-US" sz="3600" spc="-1" strike="noStrike" u="sng">
                <a:solidFill>
                  <a:srgbClr val="2c8111"/>
                </a:solidFill>
                <a:uFillTx/>
                <a:latin typeface="Times New Roman"/>
              </a:rPr>
              <a:t>Webster’s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definition of recursion "…the determination of a succession of elements… by operation on one or more preceding elements…"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ACA-F2C7-42BE-B235-7BD65EC9AFD7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echnique of RS Involve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using information you have already found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a bit of guessing 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a little knowledge of directory structure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observations of the habits of web designers/author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time to try a variety of possibilitie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1AA6-91DB-48AE-97D3-9C186F854AF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Recursive Searching (RS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llows you to find related pages, more info from the same source or different formats of the same document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F9F-4203-43F8-8696-72F995B9D69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ahoma"/>
              </a:rPr>
              <a:t>Six Questions </a:t>
            </a:r>
            <a:r>
              <a:rPr b="0" lang="en-US" sz="5400" spc="-1" strike="noStrike">
                <a:solidFill>
                  <a:srgbClr val="fd2929"/>
                </a:solidFill>
                <a:latin typeface="Tahoma"/>
              </a:rPr>
              <a:t>WWHWWW</a:t>
            </a:r>
            <a:endParaRPr b="1" lang="en-US" sz="5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at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Do You Want to Know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ere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Can You Find It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How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To Search for It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en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Was It Written/Updated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o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2800" spc="-1" strike="noStrike">
                <a:solidFill>
                  <a:srgbClr val="2c8111"/>
                </a:solidFill>
                <a:latin typeface="Technical"/>
              </a:rPr>
              <a:t>Created It &amp; Who Wants You to See  It ?</a:t>
            </a:r>
            <a:endParaRPr b="1" lang="en-US" sz="28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y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Do They Want You To See It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3980-A24E-47CA-986C-1EB286E2458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Climbing the Tre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"Climbing the Tree" allows you to maneuver through a web site to other pages that might be relevant. Climb up by removing sections of the address from the right of "/ ". Climb down by adding or changing characters to the right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2266-5F17-4B02-86CD-69E9EE427F3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Changing Ending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hanging endings of URL (.pdf, .html, .doc) can often provide the same information in a different document forma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2200" indent="-32220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ubstituting characters that match pattern (I.e. /list2003.html in place of /list2002.html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A9EE-F2A5-4688-B6AE-643FD805F828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Once You </a:t>
            </a:r>
            <a:br>
              <a:rPr sz="4400"/>
            </a:b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Find A Page…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ing portions of found URL in your repeat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</a:t>
            </a: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Ctrl-F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to find word(s) within the page you are currently viewing (</a:t>
            </a: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Ctrl-G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to repeat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tilize built-in searching tools and site maps to find information within web sites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EA2-DA0C-40DE-B147-766325495EF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Using the Expert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ind an authoritative site on a subject (national organization, trade group, governmental entity, etc.)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hen use information, links, indexes, keywords, etc. within their site to find more information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C6E9-7204-483A-B4D1-F284C311715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Indexes &amp; Databases (I&amp;D)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any items are not found by SE because they are contained in dynamic or sequestered web pag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6ABB-FA47-47F6-A9ED-7FDCB5AA9C2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Dynamic page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ynamic pages are created on the fly from a database (php, asp, sql, etc.) of information when the user specifies criteria (i.e. AnyWho.com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6519-5819-4ED2-A8E2-D6C56BDCC848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Sequestered pages--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Behind a firewal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quire password acces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HTML coding in a page causes search robots &amp; spiders to ignore pages on that site (robots.txt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D904-866C-4BAB-8F0F-5C3735FAB5C2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Indexes &amp; Databases (I&amp;D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 &amp; D- often have more human involvement in compiling, maintaining, sorting and annotating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 &amp; D- some sites may require a subscription, registration and/or user fe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Examples include LEXIS/NEXIS, SIRS and NARA (National Archives &amp; Records Administration.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F0E6-D233-4512-B8F4-26E845A86B7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Finding Indexes &amp; Database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Your friendly local librarian, always a great resource when searching for information, can point you to quality online I &amp; Ds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4D9-B609-49EE-8462-2BE3CD8E250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Current?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When was the page created/modifie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2c811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Ctrl-I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provides information on the page being viewe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any SE allow you to specify limiting dates for search results from their advanced search pag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1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0F6-2EC4-4289-BC40-35631630FA0F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152280"/>
          <a:ext cx="8991720" cy="6707160"/>
        </p:xfrm>
        <a:graphic>
          <a:graphicData uri="http://schemas.openxmlformats.org/drawingml/2006/table">
            <a:tbl>
              <a:tblPr/>
              <a:tblGrid>
                <a:gridCol w="4343400"/>
                <a:gridCol w="4648320"/>
              </a:tblGrid>
              <a:tr h="35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 A 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Select Search Engi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Advanced Pag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Word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f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 A T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Technic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Result P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Advertisem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Trim # of pages f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d45"/>
                    </a:solidFill>
                  </a:tcPr>
                </a:tc>
              </a:tr>
              <a:tr h="39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 U I C K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Qualit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URL (Address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Indexes &amp; Databas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Curr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Know Who &amp; Wh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b1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 O 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Glean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Technic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Observe Copyrigh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Learn About Search Eng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echnic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292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72400" y="380520"/>
            <a:ext cx="137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7fd45"/>
                </a:solidFill>
                <a:latin typeface="Tahoma"/>
              </a:rPr>
              <a:t>table</a:t>
            </a:r>
            <a:endParaRPr b="1" lang="en-US" sz="800" spc="-1" strike="noStrike">
              <a:solidFill>
                <a:srgbClr val="2c811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1776-F26C-432C-804C-6E1FE7484CEF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Know Who &amp; Why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o owns the site and why do they want you to read it?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y is a web page there? Know Who &amp; Why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E9D-01A9-4983-A198-01667332E0D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Why Is That Web Page There?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8111"/>
                </a:solidFill>
                <a:latin typeface="Technical"/>
              </a:rPr>
              <a:t>public service, academic, marketing,  propaganda, promotion, publicity, scams, electronic versions of written documents &amp; other media, alternative to traditional publishing, samples of work for sale, “value added” perk of subscriptions to magazines, memberships in professional organizations &amp; clubs, provide supplemental material to accompany audio/video (radio &amp; TV stations), vanity, etc.</a:t>
            </a:r>
            <a:endParaRPr b="1" lang="en-US" sz="3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50F-0F74-40B7-BDFA-BC09E6585C0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What kind of </a:t>
            </a:r>
            <a:br>
              <a:rPr sz="4400"/>
            </a:b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document is it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Basis of document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uthor's credential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References,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Citations, etc.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732A-90B8-4E49-A118-5E2DCF5E041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Hierarchy of Reliability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s measured by--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Ownership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uthor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Type of Document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Other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54DF-5E80-47F1-8041-11BC42EEE8F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Finding the owner of site/pag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Read the URL for clue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35880" indent="-3358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ich sites link to the site? Using altavista.com type--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600" spc="-1" strike="noStrike">
                <a:solidFill>
                  <a:srgbClr val="8b357f"/>
                </a:solidFill>
                <a:latin typeface="Andale Mono"/>
              </a:rPr>
              <a:t>link:http://www.xyz.co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35880" indent="-3358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o owns the URL- "whois" search at </a:t>
            </a:r>
            <a:r>
              <a:rPr b="1" lang="en-US" sz="4000" spc="-1" strike="noStrike" u="sng">
                <a:solidFill>
                  <a:srgbClr val="2c8111"/>
                </a:solidFill>
                <a:uFillTx/>
                <a:latin typeface="Technical"/>
              </a:rPr>
              <a:t>Network Solution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A643-EEF4-4D08-84C4-E4829F9A1D8E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</a:t>
            </a:r>
            <a:r>
              <a:rPr b="0" lang="en-US" sz="4800" spc="-1" strike="noStrike">
                <a:solidFill>
                  <a:srgbClr val="2c8111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Techniques for gathering only the specific material (text and/or graphics) you need from a web page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3B3-AA4C-4D1D-9C7E-B6E727F9EE4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Gleaning Warning-</a:t>
            </a:r>
            <a:r>
              <a:rPr b="0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Warning- Indiscriminate or improper use of the following techniques could result in violations of Copyright Laws and/or Plagiarism! The author does  not condone either activity!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948-26C3-4E2C-A5A1-8AB425F2F0D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Print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rint Preview, then print only desired pag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rint Screen then paste into image editing softwar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011-9C62-43B1-8422-99FEE173FF7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Sav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Bookmarks/Favorites-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ometimes the best way to save information from a web site is to save a link to that page. For info on Pros &amp; Cons of Bookmarks vs. Gleaning-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0" lang="en-US" sz="3200" spc="-1" strike="noStrike">
                <a:solidFill>
                  <a:srgbClr val="8b357f"/>
                </a:solidFill>
                <a:latin typeface="Andale Mono"/>
              </a:rPr>
              <a:t>http://www.mogadore.summit. k12.oh.us/library/gleaning. html#book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 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	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	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	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E76-6797-4556-BF26-E94913B834A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Sav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ave Image- right click mouse on image, menu appears, choose "save image as"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ave an entire page or site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"Save as" function in Internet Explorer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Open a web page in a graphical web editor, then saving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B88D-E292-431C-9B29-8071E915CDF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Select Search Engine (SE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Best Match for each Type of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ajor- Google, Yahoo, All The Web, etc.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eta Search Tools Multiple S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1212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c8111"/>
              </a:solidFill>
              <a:latin typeface="Technical"/>
            </a:endParaRPr>
          </a:p>
          <a:p>
            <a:pPr marL="31212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2c8111"/>
              </a:solidFill>
              <a:latin typeface="Technic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b2d5b"/>
                </a:solidFill>
                <a:latin typeface="Technical"/>
              </a:rPr>
              <a:t>For a table of </a:t>
            </a:r>
            <a:r>
              <a:rPr b="1" lang="en-US" sz="2900" spc="-1" strike="noStrike" u="sng">
                <a:solidFill>
                  <a:srgbClr val="660066"/>
                </a:solidFill>
                <a:uFillTx/>
                <a:latin typeface="Technical"/>
                <a:hlinkClick r:id="rId1"/>
              </a:rPr>
              <a:t>SEs &amp; Other Searching Resources: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echnic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http://www.mogadore.summit. k12.oh.us/portal/search.html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A1FD-4ECC-4BD4-95B4-49FC0671976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Sav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lternative- Use screen a recording software (Camtasia-Windows, Snapz- Mac, etc.) To capture the page and its links in “movie format”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ADD5-E01F-4AD4-BC2B-ACF99B102172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Getting Text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opy &amp; Paste into a word processor (WP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Often needs reformatting to remove paragraph returns at the end of each line (use find &amp; replace feature of WP) or other formatting tool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D44-019A-4AD8-AAF7-4744DEEC6AA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Getting Text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Text vs. Graphics- not everything that looks like text is really text. Many titles, headers, selection "buttons", etc. are actually graphic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CF68-4809-4C1D-BF28-71AC4DAD3E8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Getting Text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preadsheets, Tables &amp; Database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Copy &amp; then use "Paste Special" when bringing data into spreadsheet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Often data will be in one cell per row. To separate into multiple columns use parsing or "text to table" function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If data is separated improperly (not in the needed format) use concatenation function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05F-CB78-410B-B87F-E45D232CBEE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Observe Copyright- Resources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opyright Information Links from Stanford University-- </a:t>
            </a:r>
            <a:r>
              <a:rPr b="1" lang="en-US" sz="3200" spc="-1" strike="noStrike">
                <a:solidFill>
                  <a:srgbClr val="8b357f"/>
                </a:solidFill>
                <a:latin typeface="Andale Mono"/>
              </a:rPr>
              <a:t>http://fairuse.stanford.edu/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E8A3-9527-4A5F-859A-225B3F97434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Observe Copyright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Electronic format lends itself to very easy duplication, distribution and resulting copyright violations and/or plagiaris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itations for web re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igital Millennium Copyright Act of 1998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FA7-D00B-4FDC-8A91-9E980302993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Observe Copyright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lagiarism- Web can enable plagiarism both individualized or as a business (“Internet Paper Mills.”) Web can also detect and deter plagiarism with sites such as “Turn It In .com.”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D3F7-15CF-42A1-899C-6BE196FDEA22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!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  “...and then...”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Evaluate the effectiveness of your search by trying alternative search engines and recursive searching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18D-8EC7-437E-B9A5-C66EB4D7112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!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  “...and then...”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Visit web sites on searching and search engin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Visit web sites on evaluating the information you fin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65C6-B931-4D61-B4F4-65ABCE06FC3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!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  “...and then...”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Lean how to set preferences on favorite search engine(s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ad a book *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ry something different– Web Brain.Co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66B-F004-4611-B0CD-F20C80BF97E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Search Engines (SE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Specialized Search Tools (Anywho, Singing Fish, Who Is, Mapquest, Goggle Images, etc.)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Indexes &amp; Databases (SIRS, LEXIS-NEXIS, AMICO, etc.)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4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5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6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C973-96AB-4BD6-85EC-8DC184D8A8E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4" descr="C:\Documents and Settings\Administrator\My Documents\osn\tech_conf_04\honolulu.gif"/>
          <p:cNvPicPr/>
          <p:nvPr/>
        </p:nvPicPr>
        <p:blipFill>
          <a:blip r:embed="rId1"/>
          <a:stretch/>
        </p:blipFill>
        <p:spPr>
          <a:xfrm>
            <a:off x="2154240" y="228600"/>
            <a:ext cx="4778280" cy="63244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09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efde3"/>
                </a:solidFill>
                <a:latin typeface="Tahoma"/>
              </a:rPr>
              <a:t>Hawaii</a:t>
            </a:r>
            <a:endParaRPr b="1" lang="en-US" sz="800" spc="-1" strike="noStrike">
              <a:solidFill>
                <a:srgbClr val="2c811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D5A7-BC8B-48EF-80C9-A4B41F5AB08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Resource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ownload this presentation &amp; see links to other resources and view information on my previous presentations at: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http://www.mogadore.summit.k12.oh.us/OSN_conf.htm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C00-8615-4FF9-99ED-68DE14B94B5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ontact Information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nthony A. Luscr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ogadore Local Schools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o_luscre@neonet.k12.oh.us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Visit our district’s web portal-- http://www.mogadore.summit.k12.oh. us/portal_pages.htm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629D-9F40-45A5-8158-E9E6396FC1A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anced Pages (AP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the "Advanced Searching" page of Search Engin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P automatically incorporates Boolean Logic into a search by user entering information in text boxes 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(No knowledge of Boolean Logic required.)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CBED-88B6-4B7C-9C5A-16B118094FC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Advanced Pag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nitially “looks harder to use”. Actually much simpler, even for younger students, because there is no need to know Boolean Logic phrasing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Greatly increases chances of successful searching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8CF-868F-40EC-B020-A6BBBD84F85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anced Pages (AP)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lace links on your website to go directly to advanced search pages: Google, Yahoo, All The Web, Teoma, MetaCrawler, etc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4:50:18Z</dcterms:created>
  <dc:creator>Anthony A. Luscre</dc:creator>
  <dc:description/>
  <dc:language>en-US</dc:language>
  <cp:lastModifiedBy>Charles Miller</cp:lastModifiedBy>
  <dcterms:modified xsi:type="dcterms:W3CDTF">2011-04-01T21:34:33Z</dcterms:modified>
  <cp:revision>118</cp:revision>
  <dc:subject/>
  <dc:title>Internet  Portals- Why Your District Needs One</dc:title>
</cp:coreProperties>
</file>